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34.png" ContentType="image/png"/>
  <Override PartName="/ppt/media/image9.png" ContentType="image/png"/>
  <Override PartName="/ppt/media/image8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6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B2DF-7020-4143-A1D0-8D2B26C4A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ubstituent număr diapozitiv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5EEF-1821-4464-AFEC-591C7606B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382C-56EE-442A-821E-414B87178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FED-0A1D-4556-95B6-CDA22634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0AF-16CE-41B6-ACE8-DD3E3CAE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7EC-5420-4F74-9C49-18C7F5E8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611AF-E4F6-4BA1-B0B1-0A2F2F56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68CA-3E10-438A-A942-839234F9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D58B-B77D-4AC7-803F-C3E0DB9A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CCE9-76A4-41F8-BB9F-C16C68B4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A076-6EE7-4EEE-BF04-C77A887C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173D-BB9E-4F6D-BA54-FE19A68D2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9010-B3A5-4532-A7E9-6461F1D6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FF0-F2E3-4934-993F-BD2CEBCA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3DD03-981F-41D3-8C52-C679B161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6EFF-2D63-4C1A-9B8E-78C1F315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A91C-60C7-4081-82B1-1BE426C5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7908-B769-4226-89D3-879556F36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C098-A607-493D-9F51-E451FAB53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33AED-5919-4C1C-933E-86F655DC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3897-4D18-4F7D-82C9-086D035C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3591-931E-471C-B54B-95514AEA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27396-7B4C-4293-8191-287C5B5E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F59DF-9EB5-4B1D-8CED-C9E7FDF9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1E4-5D88-4A9E-BC4D-307DDE19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B1690-927D-470E-8388-F8F3E1E5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EA99-6409-46E6-9AA2-44C6B051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55E47-A91A-49EE-8C89-8CED1B07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8CA2-F22B-4BC5-9EEC-B84C3316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8843-6DD7-43DC-935B-202F701F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4465A-232B-4D44-B565-BADAFCD9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C61F4-A6BB-41AA-B255-A7A4550C0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74D41-D1E7-4BF4-9F4D-8FEC29D9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1A471-6A70-41B9-9CDB-432DD7AD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816F6-723F-49D3-9D6A-139FBB84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309-B607-4ED4-AA79-8BA5BF09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E8F67-2751-49F8-8E1B-6A277C7E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CAD91-99EF-45A3-8708-1F165199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3E976-1A4D-4B35-87CD-9B733D7E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12E25-77B1-467C-9531-71114F07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57994-FB88-4F8B-8814-30C4A781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F609F-CDE1-4EC1-AD3E-151CCD59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D64FF-79EC-4B09-9137-2A618117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F9DE2-F8EE-4613-B6AE-17C2DE59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53D6C-F807-4F61-996A-4B95A2A1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EC7-6EA3-44C0-85B7-5A52499D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E082-9BBB-4055-9D39-0E998CCD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7D0A-00D8-4A79-8998-5A0CDBDF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428-9355-4389-9137-0BBF9A1D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E87-69EB-46FB-ABD0-307B9BE3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2A7A-999F-46AC-954B-6F49B1BD551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BD06-11B3-42DE-B0AC-D6017990E15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5E0A-D7A8-4752-992A-84A013BAE14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526E-4597-47EC-9817-CB069055248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ro/imgres?imgurl=http://www.emag.ro/ghid/img/boxe1.jpg&amp;imgrefurl=http://www.emag.ro/ghid/boxe.php&amp;h=150&amp;w=140&amp;sz=6&amp;tbnid=fl9K-XzHvhIJ:&amp;tbnh=90&amp;tbnw=84&amp;hl=ro&amp;start=19&amp;prev=/images%3Fq%3Dboxe%2Baudio%26svnum%3D10%26hl%3Dro%26lr%3Dlang_en%7Clang_ro%26sa%3D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spo</a:t>
            </a: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zitive perifer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Reprezintă totalitatea dispozitivelor de interfaţă cu utilizatoru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ipuri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de intrar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de ieşir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de intrare-ieşi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Substituent număr diapozitiv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FBBD-B10F-4155-B12D-81E54DA20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Dispozitive periferice de ieşi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monit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imprimant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box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plot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Substituent număr diapozitiv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CAD3-2959-4C5E-BAD8-10E872F5B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143000" y="185724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3429000" y="1714680"/>
            <a:ext cx="1871640" cy="18381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6408720" y="235728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Monitoare cu tub catodic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714240" y="3786120"/>
            <a:ext cx="2376720" cy="2190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429000" y="4071960"/>
            <a:ext cx="2381400" cy="2047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6215040" y="457200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Monitoare cu cristale lichide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1500120" y="428760"/>
            <a:ext cx="59295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Moni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rcRect l="6313" t="25257" r="39389" b="14768"/>
          <a:stretch/>
        </p:blipFill>
        <p:spPr>
          <a:xfrm>
            <a:off x="428760" y="714240"/>
            <a:ext cx="4687920" cy="4857840"/>
          </a:xfrm>
          <a:prstGeom prst="rect">
            <a:avLst/>
          </a:prstGeom>
          <a:ln w="0">
            <a:noFill/>
          </a:ln>
        </p:spPr>
      </p:pic>
      <p:sp>
        <p:nvSpPr>
          <p:cNvPr id="253" name="CasetăText 4"/>
          <p:cNvSpPr/>
          <p:nvPr/>
        </p:nvSpPr>
        <p:spPr>
          <a:xfrm>
            <a:off x="5286240" y="1643040"/>
            <a:ext cx="307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imprimanta laser este o imprimant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arte rap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calitate superioar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 foloseste raza laser pentru a crea o ima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rcRect l="12118" t="30938" r="39900" b="13819"/>
          <a:stretch/>
        </p:blipFill>
        <p:spPr>
          <a:xfrm>
            <a:off x="214200" y="1928880"/>
            <a:ext cx="4808520" cy="4429080"/>
          </a:xfrm>
          <a:prstGeom prst="rect">
            <a:avLst/>
          </a:prstGeom>
          <a:ln w="0">
            <a:noFill/>
          </a:ln>
        </p:spPr>
      </p:pic>
      <p:sp>
        <p:nvSpPr>
          <p:cNvPr id="255" name="CasetăText 4"/>
          <p:cNvSpPr/>
          <p:nvPr/>
        </p:nvSpPr>
        <p:spPr>
          <a:xfrm>
            <a:off x="5072040" y="1428840"/>
            <a:ext cx="385776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mprimanta Matrice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vantaj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le imprimantelor de impact su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losesc consumabile ief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losesc alimentatoare de hartie contin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 capabilitati de printare prin copiere la indi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zavantaj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le imprimantelor de impact su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gomoto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fica de rezolutie 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acitati de culoare red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ntare inceata, in mod normal in limita a 32 pana la 76 de caractere pe secunda (cp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rcRect l="12118" t="32518" r="46213" b="16975"/>
          <a:stretch/>
        </p:blipFill>
        <p:spPr>
          <a:xfrm>
            <a:off x="500040" y="1500120"/>
            <a:ext cx="3978360" cy="3857760"/>
          </a:xfrm>
          <a:prstGeom prst="rect">
            <a:avLst/>
          </a:prstGeom>
          <a:ln w="0">
            <a:noFill/>
          </a:ln>
        </p:spPr>
      </p:pic>
      <p:sp>
        <p:nvSpPr>
          <p:cNvPr id="257" name="CasetăText 4"/>
          <p:cNvSpPr/>
          <p:nvPr/>
        </p:nvSpPr>
        <p:spPr>
          <a:xfrm>
            <a:off x="4786200" y="1785960"/>
            <a:ext cx="435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mprimanta cu jet de cerne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nta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t re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zolutie m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nesc rap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zavanta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zele se pot infun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tusele de cerneala sunt scump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neala ramane umeda dupa print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rcRect l="5052" t="25257" r="39389" b="14768"/>
          <a:stretch/>
        </p:blipFill>
        <p:spPr>
          <a:xfrm>
            <a:off x="0" y="1000080"/>
            <a:ext cx="5376960" cy="4643640"/>
          </a:xfrm>
          <a:prstGeom prst="rect">
            <a:avLst/>
          </a:prstGeom>
          <a:ln w="0">
            <a:noFill/>
          </a:ln>
        </p:spPr>
      </p:pic>
      <p:sp>
        <p:nvSpPr>
          <p:cNvPr id="260" name="CasetăText 4"/>
          <p:cNvSpPr/>
          <p:nvPr/>
        </p:nvSpPr>
        <p:spPr>
          <a:xfrm>
            <a:off x="5286240" y="1357200"/>
            <a:ext cx="38577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mprimantele cu cerneala so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ntaj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 imprimari cu culori vibra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or de folos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 folosi multe tipuri de har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zavant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imantele sunt scum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neala este scump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incalzesc gre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5543640" cy="4525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2"/>
          <a:srcRect l="5858" t="25634" r="41406" b="20898"/>
          <a:stretch/>
        </p:blipFill>
        <p:spPr>
          <a:xfrm>
            <a:off x="285840" y="1285920"/>
            <a:ext cx="5643360" cy="4786200"/>
          </a:xfrm>
          <a:prstGeom prst="rect">
            <a:avLst/>
          </a:prstGeom>
          <a:ln w="0">
            <a:noFill/>
          </a:ln>
        </p:spPr>
      </p:pic>
      <p:sp>
        <p:nvSpPr>
          <p:cNvPr id="263" name="CasetăText 4"/>
          <p:cNvSpPr/>
          <p:nvPr/>
        </p:nvSpPr>
        <p:spPr>
          <a:xfrm>
            <a:off x="6000840" y="1714680"/>
            <a:ext cx="3143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antajel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abilitate crescuta pentru ca exista putine parti 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zavantajele su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tia este scum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tia are o durabilitate scaz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itatea imaginii este scaz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tia trebuie pastrata la temperatura camere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500800" y="1600200"/>
            <a:ext cx="318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Avantajel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sunt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mprimantele foto produc poze de o calitate superioar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uprafata de protectie reduce mizeria si creste rezistenta la umezeal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Dezavantajele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unt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ediul de printare poate fi costisitor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mprimantele sunt mai bune color decat gri(alb si negru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rcRect l="13476" t="33691" r="46680" b="15041"/>
          <a:stretch/>
        </p:blipFill>
        <p:spPr>
          <a:xfrm>
            <a:off x="285840" y="1285920"/>
            <a:ext cx="4857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Plott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Substituent număr diapozitiv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5CBD-BFCD-462A-A09E-929877F45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4" descr="plotter"/>
          <p:cNvPicPr/>
          <p:nvPr/>
        </p:nvPicPr>
        <p:blipFill>
          <a:blip r:embed="rId1"/>
          <a:stretch/>
        </p:blipFill>
        <p:spPr>
          <a:xfrm>
            <a:off x="2357280" y="1857240"/>
            <a:ext cx="51292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Box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dispozitive de ieşire legate la placa de sune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utilizate pentru studiul limbilor străine, programe de autoinstruire sau pentru a asculta muzic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ubstituent număr diapozitiv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880A-7538-4BFF-9D25-CCD160A2E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5" descr="boxe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4120" y="3809880"/>
            <a:ext cx="19904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Dispozitive periferice de intr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tastatu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mou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trackb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scann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joystic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creion opt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microf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Substituent număr diapozitiv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3FF0-3F0C-4E21-80EB-32C0FC6B0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Tastatur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vi-VN" sz="2600" spc="-1" strike="noStrike">
                <a:solidFill>
                  <a:srgbClr val="000000"/>
                </a:solidFill>
                <a:latin typeface="Times New Roman"/>
              </a:rPr>
              <a:t>Dispunerea standard a caracterelor pe tastatură</a:t>
            </a: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QWER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600" spc="-1" strike="noStrike">
                <a:solidFill>
                  <a:srgbClr val="000000"/>
                </a:solidFill>
                <a:latin typeface="Constantia"/>
              </a:rPr>
              <a:t>Grupe de tast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nstantia"/>
              </a:rPr>
              <a:t>taste alfanumeric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nstantia"/>
              </a:rPr>
              <a:t>taste numer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nstantia"/>
              </a:rPr>
              <a:t>taste functiona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nstantia"/>
              </a:rPr>
              <a:t>taste specia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nstantia"/>
              </a:rPr>
              <a:t>taste de deplas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Substituent număr diapozitiv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1DAC-5081-4413-A16F-4759507EF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8"/>
          <p:cNvGraphicFramePr/>
          <p:nvPr/>
        </p:nvGraphicFramePr>
        <p:xfrm>
          <a:off x="4500720" y="2428920"/>
          <a:ext cx="4435200" cy="43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428920"/>
                    <a:ext cx="4435200" cy="43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556000" cy="2176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2"/>
          <a:stretch/>
        </p:blipFill>
        <p:spPr>
          <a:xfrm>
            <a:off x="3059280" y="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6286680" y="0"/>
            <a:ext cx="2857320" cy="2349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8"/>
          <p:cNvSpPr/>
          <p:nvPr/>
        </p:nvSpPr>
        <p:spPr>
          <a:xfrm>
            <a:off x="1835280" y="2421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use-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9" descr=""/>
          <p:cNvPicPr/>
          <p:nvPr/>
        </p:nvPicPr>
        <p:blipFill>
          <a:blip r:embed="rId4"/>
          <a:stretch/>
        </p:blipFill>
        <p:spPr>
          <a:xfrm>
            <a:off x="1042920" y="3068640"/>
            <a:ext cx="2772000" cy="2647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"/>
          <p:cNvPicPr/>
          <p:nvPr/>
        </p:nvPicPr>
        <p:blipFill>
          <a:blip r:embed="rId5"/>
          <a:stretch/>
        </p:blipFill>
        <p:spPr>
          <a:xfrm>
            <a:off x="4932360" y="3068640"/>
            <a:ext cx="3489480" cy="2671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12"/>
          <p:cNvSpPr/>
          <p:nvPr/>
        </p:nvSpPr>
        <p:spPr>
          <a:xfrm>
            <a:off x="2195640" y="6021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ck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500" spc="-1" strike="noStrike">
                <a:solidFill>
                  <a:srgbClr val="04617b"/>
                </a:solidFill>
                <a:latin typeface="Calibri"/>
              </a:rPr>
              <a:t>Scanner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Substituent număr diapozitiv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7911-65C4-463B-989C-AB67D9992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scanner_foto"/>
          <p:cNvPicPr/>
          <p:nvPr/>
        </p:nvPicPr>
        <p:blipFill>
          <a:blip r:embed="rId1"/>
          <a:stretch/>
        </p:blipFill>
        <p:spPr>
          <a:xfrm>
            <a:off x="6875640" y="4724280"/>
            <a:ext cx="1715760" cy="2025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1571760" y="1643040"/>
            <a:ext cx="3085920" cy="3168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3"/>
          <a:stretch/>
        </p:blipFill>
        <p:spPr>
          <a:xfrm>
            <a:off x="5643720" y="3691080"/>
            <a:ext cx="316692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Joystic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Substituent număr diapozitiv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A8E2-2331-42B9-A26D-211B6A22A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911"/>
          <p:cNvPicPr/>
          <p:nvPr/>
        </p:nvPicPr>
        <p:blipFill>
          <a:blip r:embed="rId1"/>
          <a:stretch/>
        </p:blipFill>
        <p:spPr>
          <a:xfrm>
            <a:off x="3071880" y="1928880"/>
            <a:ext cx="470376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2952720" cy="2833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4140360" y="0"/>
            <a:ext cx="4762440" cy="2943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6"/>
          <p:cNvSpPr/>
          <p:nvPr/>
        </p:nvSpPr>
        <p:spPr>
          <a:xfrm>
            <a:off x="2700360" y="2924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Touchp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3"/>
          <a:stretch/>
        </p:blipFill>
        <p:spPr>
          <a:xfrm>
            <a:off x="468360" y="386064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4"/>
          <a:stretch/>
        </p:blipFill>
        <p:spPr>
          <a:xfrm>
            <a:off x="5219640" y="3357720"/>
            <a:ext cx="3313080" cy="33130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9"/>
          <p:cNvSpPr/>
          <p:nvPr/>
        </p:nvSpPr>
        <p:spPr>
          <a:xfrm>
            <a:off x="3429000" y="5877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Times New Roman"/>
              </a:rPr>
              <a:t>Joysti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572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Creion optic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Substituent număr diapozitiv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3CB1-A4D3-4750-9D35-3A6AAD707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4" descr="S0057493_std"/>
          <p:cNvPicPr/>
          <p:nvPr/>
        </p:nvPicPr>
        <p:blipFill>
          <a:blip r:embed="rId1"/>
          <a:stretch/>
        </p:blipFill>
        <p:spPr>
          <a:xfrm>
            <a:off x="571680" y="1000080"/>
            <a:ext cx="3504960" cy="3373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>
            <a:off x="4857840" y="3071880"/>
            <a:ext cx="3298680" cy="2185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3"/>
          <a:stretch/>
        </p:blipFill>
        <p:spPr>
          <a:xfrm>
            <a:off x="285840" y="4000680"/>
            <a:ext cx="40384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5000" spc="-1" strike="noStrike">
                <a:solidFill>
                  <a:srgbClr val="04617b"/>
                </a:solidFill>
                <a:latin typeface="Calibri"/>
              </a:rPr>
              <a:t>Microf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Substituent număr diapozitiv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63C8F-FD62-4A9D-9F56-6C52668BE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6" descr="http://www.emaramures.ro/content/imagini-anunturi/gherman72/microfon_manta.jpg"/>
          <p:cNvPicPr/>
          <p:nvPr/>
        </p:nvPicPr>
        <p:blipFill>
          <a:blip r:embed="rId1"/>
          <a:stretch/>
        </p:blipFill>
        <p:spPr>
          <a:xfrm>
            <a:off x="2857680" y="1928880"/>
            <a:ext cx="5295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1T10:51:12Z</dcterms:created>
  <dc:creator>www.RegieLive.ro</dc:creator>
  <dc:description/>
  <dc:language>en-US</dc:language>
  <cp:lastModifiedBy>User</cp:lastModifiedBy>
  <dcterms:modified xsi:type="dcterms:W3CDTF">2013-10-09T00:17:59Z</dcterms:modified>
  <cp:revision>82</cp:revision>
  <dc:subject/>
  <dc:title>Informatica</dc:title>
</cp:coreProperties>
</file>